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74CD-A484-484A-A027-934E7BA40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C5E7-950C-4D6B-AD51-E7F0D503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A3EA-5111-48B0-8620-5F11CDC4F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5DEA-5F2F-4D50-A097-41E467D49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B4FE-50BF-4604-B337-B9DC6B7AB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7654-A3F7-4A80-8DA9-ECF342F2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5FE5-9805-4D9D-9E11-6DADADD3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4B3E-BA18-4DCB-A907-412C95CB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ECD9-B466-4B46-ABCA-8FD0EF65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A4D3-7338-4D11-ACCD-D6CCD723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FCE3-4931-4928-8A52-35D11D1E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6F59-29D7-4AAF-9DA1-48B4A704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8A18-F5B2-47A4-8386-073E1598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3AB9-76D0-40D4-81B3-0D479E84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336A-9DF0-450F-9EF0-651B9180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A836-B237-4D6E-A42C-5B13ADA8E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9C85-1A63-4C49-BF91-C79AF1078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B223-A2FB-486E-96E1-FEC4998A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8E87-2988-4056-9C3E-07450648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D8AC-77FC-4611-A569-0340596B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7E41-24FF-435F-897C-06EBACA9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0869-4E01-4539-B281-8BE00ECF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3A8F-0F9D-42F3-92C3-560F9A3A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4564-F204-4C96-8E64-29587396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8D8E-9787-4A8D-9D15-C91BB4C3440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3DFE-79A3-49E0-B0F0-453A5E9BB3E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28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Связи с общественностью в кризисных ситуациях. </a:t>
            </a:r>
            <a:br>
              <a:rPr sz="4000"/>
            </a:b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Управление проблемами и конфликтами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Процесс управления проблемами: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(Ф. Сайтел)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2. Селективная идентификация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рганизация в состоянии заниматься разрешением лишь нескольких проблем. Поэтому в центре внимания все время нужно держать от 5 до 10 конкретных проблем, которые являются жизненно важными для организ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Процесс управления проблемами: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(Ф. Сайтел)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3. Внимание к сильным и слабым местам.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ольшинство предполагаемых заранее проблем, с одной стороны, предоставляют организации шансы для своего укрепления, использования резервов, с другой - содержат угроз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Процесс управления проблемами: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(Ф. Сайтел)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4.  Планирование в направлении «Извне внутрь»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нешняя среда, а не внутренняя стратегия обуславливает селекцию приоритетных проблем. То есть управление проблемами обусловлено внешними факторам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Процесс управления проблемами: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(Ф. Сайтел)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5. Ориентация на получение пользы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Цель управления проблемами - защита организации от воздействия внешних факторов и усиление ее деловой активности за счет нейтрализации факторов, составляющих угрозу тем преимуществам, которыми она располагает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Процесс управления проблемами: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(Ф. Сайтел)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6. Составление графика действий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дентификация и упорядочение возникающих проблем, общая политика, программа и график разрешения проблем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Процесс управления проблемами: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(Ф. Сайтел)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7. Поддержка со стороны руководства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Без санкций основного руководителя одобрение и осуществление управления проблемами в пределах организации невозможно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ризис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 Выпуск заявления, представляющего факты так, как они известны, и представление его в медиа и внутри организац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 Предоставление свежей информации по мере развития ситуации и появления новых сведе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ризис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Использование самых быстрых средств коммуникации из доступных — социальные сети, мессенджеры и т.п. для распространения информации как во внешнюю среду, так и внутри организации. Распространяя информацию в СМИ, в серьезных ситуациях приоритет следует отдать крупнейшим, которые сделают большую часть работы службы ПР бесплатно, если ситуация достаточно серьез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Предоставление достаточного числа каналов для запросов информации извне; с использованием дополнительных линий связ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Антикризисный P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плекс мероприятий по прогнозированию, недопущению или преодолению кризиса репутаци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изис репутации (reputation crisis, credibility crisis, confidence crisis)– ситуация, угрожающая падением репутации или кредитоспособности организации в результате огласки или иного распространения негативной информации среди заинтересованных лиц (stakeholders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интересованные лица – любая группа людей, которая может повлиять на благополучие организации (наемный персонал, управляющие, акционеры, потребители, поставщики, кредиторы, СМИ, местные жители, местные власти, надзорные органы и др.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Процесс кризисного управления можно разделить на три этапа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ка к кризис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кции на кризис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равление его последствиям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Garamond"/>
              </a:rPr>
              <a:t>Подготовка к кризису включает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:</a:t>
            </a:r>
            <a:br>
              <a:rPr sz="2400"/>
            </a:b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 Выявление проблем, которые могут стать кризисом. Затем идентификация источника кризиса, возможно, не связанного с проблем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. Определение реакции, на основе создания кризисного плана и команды управления кризис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. Идентификация ключевых аудиторий и подготовка коммуникаций, нацеленных на эти аудитории во время критических первых дней кризиса. Реакция в первые часы кризиса особенно важн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00"/>
                </a:solidFill>
                <a:latin typeface="Garamond"/>
              </a:rPr>
              <a:t>Подготовка к кризису включает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Определение точки управления кризисом. Это может быть центральный или региональный офис, что обусловлено концентрацией основных ресурсов ПР на том или другом уровне. В одних компаниях — это головной офис, в других, наоборот, — службы отдел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. Определение дублеров для ключевого штата. В конкретный момент нужный человек может оказаться болен или длительно отсутствовать. Поэтому система замен должна быть надежной для любых потряс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. Подготовка процедур на случай чрезвычайных ситуаций методом моделирова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7. Подготовка всех лиц, потенциально интересных прессе, к работе с не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00"/>
                </a:solidFill>
                <a:latin typeface="Garamond"/>
              </a:rPr>
              <a:t>Подготовка к кризису включает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8. Создание системы легкой достижимости высших менеджеров для головного офис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9. Предоставление инструкций по управлению кризисом для всех, потенциально вовлеченных в него. Эти люди должны располагать точкой зрения компании по важнейшим проблемам, а также списком домашних телефонов потенциальных менеджеров кризис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0. Подготовка поддержки пресс-офиса, служб отношений с потребителями, управления человеческими ресурсами, а также консультант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9900"/>
                </a:solidFill>
                <a:latin typeface="Garamond"/>
              </a:rPr>
              <a:t>Программа управления проблемами включает восемь шагов:</a:t>
            </a:r>
            <a:endParaRPr b="0" lang="en-US" sz="3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Идентификация: какие проблемы могут возникнуть, исходя из специфики отрасли или масштаба компании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Расстановка приоритетов/классификация: какие из данных рисков могут причинить значительный ущерб репутации или деятельности компании, если ими не управлять эффективно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Мониторинг: как данная проблема развивается ежемесячно или даже ежедневно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Подготовка: как мы можем предсказать направление развития ситуации и разработать план действий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9900"/>
                </a:solidFill>
                <a:latin typeface="Garamond"/>
              </a:rPr>
              <a:t>Программа управления проблемами включает восемь шагов:</a:t>
            </a:r>
            <a:endParaRPr b="0" lang="en-US" sz="3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. Действие: какие шаги мы можем предпринять для того, чтобы изменить направление развития проблемы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. Реакция на проблему/кризис: как реагировать, если проблема перейдет в кризис, угрожающий бизнесу компании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7. Оценка: эффективно ли мы реагировали на проблему, предотвращая ее эволюцию в кризис? Какие уроки мы вынесли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8. Реклассификация: уменьшилась ли острота проблемы с течением времени? Является ли она все еще прогрессирующей угрозой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Процесс управления проблемами: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(Ф. Сайтел):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Предвидение проблем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роцесс управления проблемами требует предвидения за 1,5-3 года до возможного перерастания в кризис. То есть это еще не планирование мер по преодолению кризиса и не планирование выхода их кризиса, а предкризисное планировани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03:07:15Z</dcterms:created>
  <dc:creator>XTreme</dc:creator>
  <dc:description/>
  <dc:language>en-US</dc:language>
  <cp:lastModifiedBy>Дружба Ольга Владимировна</cp:lastModifiedBy>
  <dcterms:modified xsi:type="dcterms:W3CDTF">2022-11-17T12:07:50Z</dcterms:modified>
  <cp:revision>16</cp:revision>
  <dc:subject/>
  <dc:title>PR управление кризисом и</dc:title>
</cp:coreProperties>
</file>