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A9B-B797-4C69-9C02-B74124A1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40F-C299-47D7-89A7-FFF4CFE8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DC2-DCFC-4B35-9063-8FDA7527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2F5-A0FE-46BF-B5A8-9F283255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664B-6F38-48D9-9C46-AE7E7CC5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9D1D-7B47-4F45-BCE1-7A7B2AAA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154B-0794-4881-85CE-7BA52FB7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5FA3-6F6D-40FB-BBE3-3D40BC0E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9887-ED7E-489B-B5C9-3EAE0A6B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648F-6CFE-4F3B-B5B4-A901B663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25A0-6959-41AA-AD51-468A40BE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A4BF-C85B-4CDD-9049-89F82DD5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C417-7A8A-4254-B3B9-AE9D7F17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6321-CE9E-4B1E-8028-CA7B325E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D71E-26CE-493E-9250-763D07DC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312B-AA67-4942-865E-030C04E9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A407-D6CD-4758-A21A-C679B71C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A3DA0-EAAE-4592-8B10-8E08C645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5C664-CB7A-4FDD-81E6-926AA3DB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F4BF7-4687-4228-95A0-9B53E54F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E5283-54F8-4499-AA77-AE5580BC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01B5B-100A-499B-BC0A-05A64E7F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1C90-7B92-4040-8477-0BD283F3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D092-FB7C-49FB-AC20-88D2B827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CE131-587C-48DF-B8CA-636A39D6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D521-F1AF-4EF4-B533-DDFC0F77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840B7-B292-4BA0-96A4-5C8C1ECB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50307-E885-47DB-B75D-966311B1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440E5-3BF4-4EFA-B3D7-2B0F6968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42269-294D-4702-800B-5E5C67CA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06BB1-8C42-4971-A089-B1A0DCBC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51A07-88E2-4557-BA4C-5F8C391F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4236-BEDC-436C-92FB-0DD984FB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0D3-BC58-4764-8152-57FF2C4E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372E4-0D5D-4A92-A2C1-FB92276F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0F56B-A5A8-4039-B9FC-1DFCD8C8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8EAE6-2E07-480E-BDEB-CDE830E3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147D7-6414-4A75-A116-CF1B160A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3EA83-CCD8-4ACC-9B14-939801FC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87451-A082-4CDE-87EB-5BD0B16D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51B5C-06AD-4F0F-9C75-176F9460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F2764-4917-4F06-B408-FFC71B41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8FEF4-0AF3-4C7B-AED5-8C49BA51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8C129-BC6D-42BC-B732-B38E0692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FBC-078D-44D4-9904-E436A871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E41EB-EC32-4024-80AC-F4BF23AB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6D55B-93D6-4857-95BA-E45FD627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D266F-0693-4EBD-8A25-3F75671A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2E099-0D1D-4C2F-9B8C-92BBB300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61D23-C393-44B4-8052-F26A7051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2A6A9-2B69-45E2-9BDA-56AEC40F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F0502-F993-45A5-A34D-B97E1EBB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19464-6B9C-4F90-82AD-5C341C5C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89057-6BF2-421C-A4A6-18B94474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63F20-D36D-4455-915F-B9C2A7A8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EC4-6C03-4296-B210-34E85C4B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C90B5-254E-48AC-BD40-F9FF3D1F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698-1D1E-4535-B1DE-64BD1BC0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D747-80D3-4AE5-B0BF-034FE10A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95A-2356-4CB0-94DD-651C2E33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BCF3-8060-417A-A49A-62144B6987B9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0F03-16E2-4592-AFF6-7EE384B2E214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F0C8-C497-44B2-922E-8CE84594F6B0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CA6A-48D0-4CCF-B6E8-534ACD741985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EE71-218F-4869-A2D4-BFD48E583EF2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93440" y="1125360"/>
            <a:ext cx="6550200" cy="123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Arial"/>
              </a:rPr>
              <a:t>Антикризисный </a:t>
            </a:r>
            <a:r>
              <a:rPr b="1" i="1" lang="en-US" sz="3600" spc="-1" strike="noStrike">
                <a:solidFill>
                  <a:srgbClr val="262626"/>
                </a:solidFill>
                <a:latin typeface="Arial"/>
              </a:rPr>
              <a:t>PR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581200" y="3376080"/>
            <a:ext cx="6562800" cy="17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Times New Roman"/>
              </a:rPr>
              <a:t>Теория кризисов: определение, типология, причины возникновения</a:t>
            </a:r>
            <a:endParaRPr b="0" lang="en-US" sz="3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ризисы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бязательный компонент нашей жизн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икто не застрахован от кризисов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е только угроза организации, но и шанс улучшить ее репутацию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Impact"/>
              </a:rPr>
              <a:t>конфликт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динамический тип социальных взаимоотношений, произрастающих из потенциально возможных или реальных столкновений субъектов на почве тех или иных противоречиво осознаваемых предпочтений, интересов или ценностей;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стоянно присутствующий и не поддающийся устранению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Impact"/>
              </a:rPr>
              <a:t>Типология кризисов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лассификация кризисов зависит от того, какой критерий мы выбираем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Impact"/>
              </a:rPr>
              <a:t>Классификация кризисов ( С. Катлип, А. Сентер и Г. Брум):</a:t>
            </a:r>
            <a:r>
              <a:rPr b="0" lang="ru-RU" sz="24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Неожиданные кризисы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. Происходят настолько внезапно и неожиданно, что остается очень мало или совсем не бывает времени для подготовки и планирования (авиакатастрофа, смерть ведущего руководителя и т.п.). Такие кризисы требуют заблаговременного согласования между руководителями плана действий, который позволили бы избежать недоразумений и неоперативности реагирования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62626"/>
                </a:solidFill>
                <a:latin typeface="Impact"/>
              </a:rPr>
              <a:t>Классификация кризисов ( С. Катлип, А. Сентер и Г. Брум):</a:t>
            </a:r>
            <a:endParaRPr b="0" lang="en-US" sz="3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Назревающие кризисы. Больше времени для планирования и изучения, но могут разразиться моментально после длительного брожения (неудовлетворение работников, неблагоприятный моральный климат и т.п.)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62626"/>
                </a:solidFill>
                <a:latin typeface="Impact"/>
              </a:rPr>
              <a:t>Классификация кризисов ( С. Катлип, А. Сентер и Г. Брум):</a:t>
            </a:r>
            <a:endParaRPr b="0" lang="en-US" sz="3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Непрерывные кризисы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. Могут длиться месяцами или годами (сплетни, слухи, спекуляции)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51040" y="228240"/>
            <a:ext cx="7392960" cy="13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Impact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Impact"/>
              </a:rPr>
              <a:t>типы 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организационных </a:t>
            </a:r>
            <a:r>
              <a:rPr b="1" lang="ru-RU" sz="2400" spc="-1" strike="noStrike">
                <a:solidFill>
                  <a:srgbClr val="262626"/>
                </a:solidFill>
                <a:latin typeface="Impact"/>
              </a:rPr>
              <a:t>кризисов: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31640" y="177300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303030"/>
                </a:solidFill>
                <a:uFillTx/>
                <a:latin typeface="Times New Roman"/>
              </a:rPr>
              <a:t>Неожиданные кризисы</a:t>
            </a:r>
            <a:r>
              <a:rPr b="0" lang="ru-RU" sz="3100" spc="-1" strike="noStrike">
                <a:solidFill>
                  <a:srgbClr val="303030"/>
                </a:solidFill>
                <a:latin typeface="Times New Roman"/>
              </a:rPr>
              <a:t> (чрезвычайные происшествия: различного вида катастрофы, смерть ведущего служащего, пожары, паника в учреждении и т.д.) – наиболее опасный вид кризисов. </a:t>
            </a:r>
            <a:endParaRPr b="0" lang="en-US" sz="31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03030"/>
                </a:solidFill>
                <a:latin typeface="Times New Roman"/>
              </a:rPr>
              <a:t>Они случаются так внезапно и неожиданно, что остается немного времени или его почти нет для исследования и планирования. </a:t>
            </a:r>
            <a:endParaRPr b="0" lang="en-US" sz="31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262626"/>
                </a:solidFill>
                <a:uFillTx/>
                <a:latin typeface="Impact"/>
              </a:rPr>
              <a:t>Развивающиеся кризисы</a:t>
            </a:r>
            <a:endParaRPr b="0" lang="en-US" sz="3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еудовлетворенность служащих и низкие моральные качества, значительные злоупотребления на работе, назначение завышенной цены по государственным контрактам компани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 этом случае остается больше времени для исследования и планирования, но и эти кризисы могут происходить неожиданно, назревая в течение длительного времени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262626"/>
                </a:solidFill>
                <a:uFillTx/>
                <a:latin typeface="Impact"/>
              </a:rPr>
              <a:t>Устойчивые кризисы</a:t>
            </a:r>
            <a:endParaRPr b="0" lang="en-US" sz="3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дезинформация, слухи, толки, предположения, высказываемые в средствах массовой информации и устно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, которые, несмотря на усилия администрации, продолжают существовать месяцами или даже годам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55920" y="0"/>
            <a:ext cx="7588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Impact"/>
              </a:rPr>
              <a:t>Классификация кризисов - подход С. Блэка:</a:t>
            </a:r>
            <a:r>
              <a:rPr b="1" lang="ru-RU" sz="40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«известное неизвестное» -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«известно, что авария может произойти, но </a:t>
            </a: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неизвестно,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оизойдет ли она, и если да, то когда»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«неизвестное неизвестное»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- случаются катастрофы и аварии, которые никто не способен предвидеть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Impact"/>
              </a:rPr>
              <a:t>Актуальность антикризисного управления</a:t>
            </a:r>
            <a:endParaRPr b="0" lang="en-US" sz="2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С точки зрения пиара, маркетинговых коммуникаций и комьюнити-менеджмента, 2020-2021 гг. показали большое количество примеров и ситуаций, когда бизнес демонстрировал в основном неудачные примеры антикризисных коммуникаций и слабого маркетингового взаимодействия.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8120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i="1" lang="ru-RU" sz="2300" spc="-1" strike="noStrike" u="sng">
                <a:solidFill>
                  <a:srgbClr val="262626"/>
                </a:solidFill>
                <a:uFillTx/>
                <a:latin typeface="Impact"/>
              </a:rPr>
              <a:t>Д. Ньюсом, А. Скотт («Это ПР»)</a:t>
            </a:r>
            <a:r>
              <a:rPr b="0" lang="ru-RU" sz="40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755640" y="1341360"/>
          <a:ext cx="8280360" cy="5516640"/>
        </p:xfrm>
        <a:graphic>
          <a:graphicData uri="http://schemas.openxmlformats.org/drawingml/2006/table">
            <a:tbl>
              <a:tblPr/>
              <a:tblGrid>
                <a:gridCol w="2741760"/>
                <a:gridCol w="1868400"/>
                <a:gridCol w="367020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ы кризис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рушите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строфические - внезапные человеческие жертвы и разруш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разрушительны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жиданные у грозы, но потери, если случаются, отсрочен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ирод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трясения, лесные пожары, ураганы и п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ухи, эпидемии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еднамер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ы терроризма, в том числе умышленная порча продуктов, что приводит к человеческим жертвам или повреждению собст­вен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розы использования взрывчатки, отравления продуктов, насильствен­ных захватов, разглашение секретов, умышленные слухи и другие злонамеренные действ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преднамер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ывы, пожары, отравления, другие авар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на производстве с отсроченными последствиями, биржевые крахи, банкротств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331640" y="475920"/>
            <a:ext cx="7659720" cy="57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 расположению источника кризисы можно подразделить на внешние, внутренние и смешанные (последний вариант наиболее распространен);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 направленности воздействий — на непосредственные и косвенные, т.е. непосредственно касающиеся базисного PR-субъекта и косвенно затрагивающие его интересы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83920" y="0"/>
            <a:ext cx="7659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Ученые выделили восемь типов кризисов, вызванных либо управленческими ошибками, либо природными силами: </a:t>
            </a:r>
            <a:br>
              <a:rPr sz="2000"/>
            </a:b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79040" y="1125360"/>
            <a:ext cx="7464600" cy="573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риродные и технологические кризисы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онфронтация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недоброжелательность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искажение управленческих ценностей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бман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лохое исполнение управленцами своих обязанностей (должностные преступления)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деловые кризисы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экономические кризисы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60" name="Picture 3" descr="Снимок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042920" y="141264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62" name="Picture 3" descr="Снимок_2"/>
          <p:cNvPicPr/>
          <p:nvPr/>
        </p:nvPicPr>
        <p:blipFill>
          <a:blip r:embed="rId1"/>
          <a:stretch/>
        </p:blipFill>
        <p:spPr>
          <a:xfrm>
            <a:off x="684360" y="549360"/>
            <a:ext cx="8064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262626"/>
                </a:solidFill>
                <a:latin typeface="Impact"/>
              </a:rPr>
              <a:t>Экономические кризисы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тражают острые противоречия в экономике страны или экономическом состоянии отдельного предприятия, фирмы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 производства и реализации товара, взаимоотношений экономических агентов, кризисы неплатежей, потери конкурентных преимуществ, банкротства и пр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262626"/>
                </a:solidFill>
                <a:latin typeface="Impact"/>
              </a:rPr>
              <a:t>Социальные кризисы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озникают при обострении противоречий или столкновении интересов различных социальных групп или образований: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ботников и работодателей, профсоюзов и предпринимателей, специалистов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зличных профессий, персонала и менеджеров и др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26"/>
                </a:solidFill>
                <a:latin typeface="Impact"/>
              </a:rPr>
              <a:t>Организационные кризисы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роявляются как кризисы разделения и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интеграции деятельности, распределения функций, регламентации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функционирования отдельных подразделений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ак отделение административных единиц, регионов, филиалов или дочерних фирм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26"/>
                </a:solidFill>
                <a:latin typeface="Impact"/>
              </a:rPr>
              <a:t>Психологические кризисы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 психологического состояния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человек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ни проявляются в виде стресса, приобретающего массовый характер,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в возникновении чувства неуверенности, паники, страха за будущее, неудовлетворенности работой, правовой защищенностью и социальным положением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 в социально-психологическом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лимате общества, коллектива или отдельной социальной группы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Impact"/>
              </a:rPr>
              <a:t>Технологический кризис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озникает как кризис новых технологических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идей в условиях явно выраженной потребности в новых технологиях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может быть кризис технологической несовместимости изделий или кризис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тторжения новых технологических решений. В более обобщенном плане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такие кризисы могут выглядеть кризисами научно-технического прогресса —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бострение противоречий между его тенденциями, возможностями,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оследствиями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апример, в настоящее время переживает явный кризис идея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мирного использования атомной энергии, строительства атомных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лектростанций и кораблей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photo_2020-07-15_16-31-11-736x1024"/>
          <p:cNvPicPr/>
          <p:nvPr/>
        </p:nvPicPr>
        <p:blipFill>
          <a:blip r:embed="rId1"/>
          <a:stretch/>
        </p:blipFill>
        <p:spPr>
          <a:xfrm>
            <a:off x="25092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18920" y="228600"/>
            <a:ext cx="737244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Причины возникновения кризисов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47640" y="1267920"/>
            <a:ext cx="734544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могут быть </a:t>
            </a:r>
            <a:r>
              <a:rPr b="0" i="1" lang="ru-RU" sz="2000" spc="-1" strike="noStrike">
                <a:solidFill>
                  <a:srgbClr val="303030"/>
                </a:solidFill>
                <a:latin typeface="Times New Roman"/>
              </a:rPr>
              <a:t>объективными и субъективными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Объективный кризис вызывают обстоятельства, находящиеся вне контроля базисного PR-субъекта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Например, избрание нового губернатора, стихийные природные явления, теракты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Одним из признаков объективного кризиса является то, что он негативно сказывается на  широкой аудитории, а не только на</a:t>
            </a: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базисном PR-субъекте. К признакам такого кризиса относится также</a:t>
            </a: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неожиданность,</a:t>
            </a: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паническое состояние жертв воздействий и кажущаяся безысходность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Основные проблемы у организации возникают не в результате самих объективных кризисов, а в результате адаптации к новым условиям. Таким образом, вторичное порождение объективного кризиса — это </a:t>
            </a:r>
            <a:r>
              <a:rPr b="0" i="1" lang="ru-RU" sz="2000" spc="-1" strike="noStrike">
                <a:solidFill>
                  <a:srgbClr val="303030"/>
                </a:solidFill>
                <a:latin typeface="Times New Roman"/>
              </a:rPr>
              <a:t>кризис адаптации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В результате преодоления объективных кризисов у организации вырабатывается «антикризисный иммунитет»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39296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Сферы протекания кризисных процессов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86920" y="1915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зделяются на природные, общественные, экологические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ервые вызваны природными условиями жизни и деятельности человека. К причинам таких кризисов относят землетрясения, ураганы, пожары, климатические изменения, наводнения. Это отражается на экономике, психологии человека, социальных и политических процессах. Природные кризисы включают в себя последствия любых стихийных бедствий. Например, наводнениеуничтожило весь урожай на полях базисного PR-субъект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692360" y="475920"/>
            <a:ext cx="7299360" cy="57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ичиной кризисов могут быть общественные отношения во всех формах их выражения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апример, законодательные (принят новый закон об ипотеке) или политические, которые обычно бывают вызваны сменой каких-либо ключевых политических фигур, от Президента РФ до депутата местного самоуправления, а также приходом к власти новых политических сил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Impact"/>
              </a:rPr>
              <a:t>Экологические кризисы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ризисы взаимоотношения человека с природой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, возникающие при изменении природных условий, вызванных деятельностью человека, — истощение ресурсов, загрязнение окружающей среды, возникновение опасных технологий, пренебрежение требованиями законов природного равновесия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23760" y="228240"/>
            <a:ext cx="731988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Impact"/>
              </a:rPr>
              <a:t>Актуальность антикризисного  менеджмента</a:t>
            </a:r>
            <a:endParaRPr b="0" lang="en-US" sz="2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895040" y="1341360"/>
            <a:ext cx="7248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дикальные технологические трансформации вызвали негативные изменения глубинных основ функционирования общества,  воспроизводства действительной жизни населения, его материального благополучия, физического, духовно-нравственного и психического здоровья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иобрели опасный характер депопуляционные процессы, обнищание населения, разрушение трудового потенциала, массовые социопатии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худшилась социально-экологическая ситуация, обострились угрозы техногенных аварий и катастроф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Понятие и функции антикризисного менеджмента. </a:t>
            </a: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Антикризисные PR</a:t>
            </a:r>
            <a:br>
              <a:rPr sz="2800"/>
            </a:b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являются важной частью антикризисного менеджмента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Антикризисный менеджмент - деятельность, необходимая для преодоления состояния, угрожающего существованию предприятия, его репутации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 этих целях осуществляется ряд информационно-технологических действий, направленных на достижение доверия к организации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антикризисный менеджмент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 узком смысле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- решение задач по разработке и проведению мероприятий, которые ведут к ослаблению и преодолению кризисного процесса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 широком смысле включает не только стратегию и тактику преодоления кризиса, но и его профилактику. Согласно этой точке зрения, например, PR-план по выходу из кризисной ситуации нужно разрабатывать до того, как кризис наступил. Во время кризиса базисный PR-субъект может использовать подготовленные заранее сценарии поведения и трактовки самых разных кризисных случаев, которые могут с ними произойт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Impact"/>
              </a:rPr>
              <a:t>Характеристики кризисов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незапное возникновение новых действующих лиц, высказывающихся на тему и требующих объяснений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еренасыщение коммуникационных каналов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рост неопределенности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618920" y="259920"/>
            <a:ext cx="7372440" cy="59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собое значение превентивный антикризисный менеджмент приобретает в потенциально опасной отрасли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 числу таких отраслей эксперты относят потенциально аварийные, — энергетику, химическое производство, добычу природных ресурсов, транспорт;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связанные с сохранением здоровья и жизни людей, — здравоохранение,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роизводство продуктов питания, а также других товаров и услуг;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трасли, связанные с благосостоянием населения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Impact"/>
              </a:rPr>
              <a:t>Кризисом для организации могут являться следующие события: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гроза банкротств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становка производства или его угроз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Забастовка занятых или её угроз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гроза террористического акт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течка значимой конфиденциальной информаци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ерьезный несчастный случай, сопровождающийся фатальным исходом и ранениями, или ограничивающий способность организации функционировать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отеря значимого потребителя или рынк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Банкротство крупнейшего поставщика или задержка поставок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зногласия в отрасл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photo_2020-07-15_16-31-04-2-1024x768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8120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Impact"/>
              </a:rPr>
              <a:t>Кризисом для организации могут являться следующие события:</a:t>
            </a:r>
            <a:br>
              <a:rPr sz="3100"/>
            </a:br>
            <a:endParaRPr b="0" lang="en-US" sz="25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77744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Нежелательное или враждебное поглощение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теря финансовой поддержки или покровителя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Назначение в госадминистрации чиновника, враждебного для компании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Изменение государственного регулирования, несущее серьезные негативные последствия для организации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539640" y="1720800"/>
            <a:ext cx="84250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упный дефект продукта, требующий отзыва продукта с рын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езапная болезнь, похищение, смерть и другие причины, затрагивающие способность ключевых менеджеров функционир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наружение криминальной или недобросовестной деятельности, имеющей отношение к менеджменту и грозящей целостности организ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льсификация продукта, компрометирующая организ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618920" y="404640"/>
            <a:ext cx="7372440" cy="583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 качестве кризисных могут выступать явления, имеющие косвенное отношение к деятельности организации. Если в 80-х годах в качестве главных кризисных явлений выступали отзыв недоброкачественной продукции, вопросы здоровья, безопасности и другие "осязаемые" проблемы,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то в 90-х годах кризисный список существенно пополнился: в нем ключевыми были обвинения компаний в расовой и другой дискриминации, должностные преступления, нарушения трудового и торгового законодательства, проблемы сексуальных притязаний и т.д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618920" y="259920"/>
            <a:ext cx="7372440" cy="59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 функциям антикризисного менеджмента относятся исследование и анализ с точки зрения кризисных последствий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негативных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общественных тенденций, представляющих угрозу репутации и прибыли компании (например, негативное восприятие продукта потребителями)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нейтральных (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скажем, нововведения в процесс упаковки продуктов)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положительных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(например, выход на новые рынки) тенденций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63280" y="228240"/>
            <a:ext cx="6985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62626"/>
                </a:solidFill>
                <a:latin typeface="Impact"/>
              </a:rPr>
              <a:t>антикризисный менеджер управляет:</a:t>
            </a:r>
            <a:br>
              <a:rPr sz="2500"/>
            </a:br>
            <a:endParaRPr b="0" lang="en-US" sz="25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402920" y="907920"/>
            <a:ext cx="7588440" cy="533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активами (пассивами) предприятия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апами бизнес-процесса (сбыт, производство, снабжение, учет)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ограммами защиты имущества и безопасности бизнеса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03030"/>
                </a:solidFill>
                <a:uFillTx/>
                <a:latin typeface="Times New Roman"/>
              </a:rPr>
              <a:t>кадрами (включая вопросы формирования кадровой политики,  социальные вопросы, отношения с профсоюзами)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03030"/>
                </a:solidFill>
                <a:uFillTx/>
                <a:latin typeface="Times New Roman"/>
              </a:rPr>
              <a:t>программами построения отношений с акционерами, партнерами, органами государственной власти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03030"/>
                </a:solidFill>
                <a:uFillTx/>
                <a:latin typeface="Times New Roman"/>
              </a:rPr>
              <a:t>программами информационной поддержки (включая доведение до сведения трудового коллектива информации о планах, методах и принципах  управления, а также доведение социально-значимых аспектов деятельности до широкой общественности</a:t>
            </a:r>
            <a:r>
              <a:rPr b="0" i="1" lang="ru-RU" sz="2400" spc="-1" strike="noStrike">
                <a:solidFill>
                  <a:srgbClr val="72605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трашен не сам кризис, а неправильное поведение в критической ситуаци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т.е.неумение выстроить эффективные коммуникаци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402920" y="549360"/>
            <a:ext cx="758844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сновой антикризисного PR является стратегия антикризисного менеджмента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спех преодоления кризисных явлений зависит не только от действий руководства организации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антикризисный PR  должен обеспечить поддержку выработанной стратегии выхода из кризиса со стороны внешней среды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Антикризисные связи с общественностью являются одним из важнейших рычагов преодоления кризиса наряду с экономическими, финансовыми, юридическими и прочими рычагами и необходимой частью собственно антикризисного менеджмент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547640" y="404640"/>
            <a:ext cx="7444080" cy="583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онфликтные PR является видом антикризисных PR. Ведь конфликт - частный, локальный вид кризиса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 взаимного доверия между сторонами, связанными в процессе деятельности; период, когда согласия не удаётся достигнуть путём переговоров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онфликт – острая форма конкурентной борьбы (и в бизнесе, и в политике, и в личных отношениях)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258920" y="259920"/>
            <a:ext cx="7564320" cy="593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д кризисом может подразумеваться и любое изменение в компании, даже рост ее доходов или количества филиалов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Любое изменение – в лучшую или худшую сторону – это уже кризис, поскольку требуются разъяснения для общественности – внутренней или внешней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Такие кризисы получили название обыкновенных», они составляют львиную долю кризисов любой компании. И именно на «обыкновенные» кризисы компании, как правило, вообще не реагируют. Среди «обыкновенных» выделяют, в частности, кризисы роста, кризисы зрелости и кризисы спада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7515360" cy="96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Переход от стадии формирования организации к ее интенсивному росту,</a:t>
            </a:r>
            <a:br>
              <a:rPr sz="2000"/>
            </a:b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как правило, сопровождается первым кризисом роста.</a:t>
            </a:r>
            <a:br>
              <a:rPr sz="2400"/>
            </a:b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499760" y="152388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Стадия формирования характеризуется, с одной стороны, наличием в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организации специалистов-разработчиков («новаторов», «творцов»), готовых, основываясь на потребностях рынка, создавать и предлагать новый (или нужный) продукт, а с другой стороны, превалированием внутри организации тесных, доверительных, почти «семейных» отношений, свойственных организационной культуре. 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Однако для эффективного функционирования организации на стадии интенсивного роста на смену «творцам» (или в дополнение к ним) должны прийти «продавцы», коммерсанты, специалисты, способные обеспечить продвижение товара на рынке. Изменение профессионально-ролевого состава организации ведет к появлению новых организационно-культурных норм. 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Нормальные условия существования и профессионального развития «продавцов» — это постоянная конкуренция друг с другом, характерная для  предпринимательской организационной культуры.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49440" y="1125360"/>
            <a:ext cx="6694560" cy="123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62626"/>
                </a:solidFill>
                <a:latin typeface="Impact"/>
              </a:rPr>
              <a:t>кризис</a:t>
            </a:r>
            <a:endParaRPr b="0" lang="en-US" sz="45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581200" y="3376080"/>
            <a:ext cx="6562800" cy="17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Times New Roman"/>
              </a:rPr>
              <a:t>«Знайте о худшем и готовьтесь к нему» </a:t>
            </a:r>
            <a:endParaRPr b="0" lang="en-US" sz="3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Следующая кризисная ситуация ожидает организацию, переходящую от стадии интенсивного роста к стадии стабилизации. Ее называют </a:t>
            </a: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кризисом</a:t>
            </a:r>
            <a:br>
              <a:rPr sz="2000"/>
            </a:b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зрелости.</a:t>
            </a: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Для стадии стабилизации необходимы специалисты, способные создавать эффективные технологии, фиксировать ( в технологических схемах) наиболее удачные подходы, обнаруженные в ходе интенсивного роста организации. Это означает, что «продавцов» должны сменить (или дополнить) «технологи»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Средой их функционирования должны стать правила строгой иерархии, подчиненности, определенности, детерминируемые профессиональной деятельностью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акой тип отношений характерен для бюрократической организационной культуры, вступающей в противоречие с предпринимательской, эффективной для предыдущей стадии, доминантой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Кризис характерен для перехода от стадии стабилизации к с</a:t>
            </a: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тадии спада. </a:t>
            </a: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Именно этот этап - собственно кризис</a:t>
            </a: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Именно на него реагируют руководители организации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Для выживания организации, оказавшейся на стадии спада, необходимы совершенно особые специалисты, способные объединить в себе навыки разработчиков, продавцов и технологов. С точки зрения изменения норм и правил можно предположить, что персонал организации будет нуждаться в совершенно особом стиле отношений — ориентированном на лидера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Для преодоления собственно кризиса особое значение будет иметь то, что принято называть харизмой лидера. При этом в зависимости от специфики организации это может быть харизма вождя, суперпрофессионала или коммуникатора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Impact"/>
              </a:rPr>
              <a:t>Факторы, усложняющие управление в условиях кризиса:</a:t>
            </a:r>
            <a:br>
              <a:rPr sz="3000"/>
            </a:br>
            <a:r>
              <a:rPr b="1" lang="ru-RU" sz="3000" spc="-1" strike="noStrike">
                <a:solidFill>
                  <a:srgbClr val="262626"/>
                </a:solidFill>
                <a:latin typeface="Impact"/>
              </a:rPr>
              <a:t>(Ф. С</a:t>
            </a:r>
            <a:r>
              <a:rPr b="1" lang="ru-RU" sz="3000" spc="-1" strike="noStrike">
                <a:solidFill>
                  <a:srgbClr val="000000"/>
                </a:solidFill>
                <a:latin typeface="Impact"/>
              </a:rPr>
              <a:t>айтел)</a:t>
            </a:r>
            <a:endParaRPr b="0" lang="en-US" sz="3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Внезапность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. Кризис является неожиданным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Недостаточность информации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. Слухи, трудно постичь все, много обращений за разъяснением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Эскалация событий.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ризис разрастается. Все хотят знать, что происходит. Организация пытается реагировать на все аккуратно, но события разворачиваются стремительно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Факторы управления в условиях кризиса: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(Ф. С</a:t>
            </a:r>
            <a:r>
              <a:rPr b="1" lang="ru-RU" sz="2800" spc="-1" strike="noStrike">
                <a:solidFill>
                  <a:srgbClr val="000000"/>
                </a:solidFill>
                <a:latin typeface="Impact"/>
              </a:rPr>
              <a:t>айтел)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71280" y="1413000"/>
            <a:ext cx="727236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Потеря контроля.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еверная информация попадает в каналы новостей, газетные полосы и эфир. Расползание слухов трудно контролировать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Нарастание вмешательства внешних сил.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МИ, общественные организации и население питаются слухами. Все стараются высказать свою точку зрения и ждут реакции организации. Все требуют ответа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Ментальность загнанного в угол.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Лучше всего молчать. И сидеть как в осаде. «Все, что вы скажите, может быть использовано против вас»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Паника.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Impact"/>
              </a:rPr>
              <a:t>специалисты Ogilvy PR выделяют восемь характеристик, лежащих в основе кризисов</a:t>
            </a: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1. Неожиданность, обусловленная разоблачением в средствах массовой информаци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2. Недостаток информации об относящихся к делу фактах и стихийно формирующееся общественное представление о проблеме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3. Прогрессирующий поток событий, мешающий топ-менеджерам быстро осознать то, что, нравится им это или нет, они «владеют» проблемой и должны быстро сформулировать убедительный ответ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4. Потеря контроля над восприятием развивающегося кризиса и над воздействием, которое он начинает оказывать на компанию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51040" y="765000"/>
            <a:ext cx="7392960" cy="55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5. Пристальный надзор со стороны как внешних, так и внутренних аудиторий, включая медиа, правительство, регулирующие органы, группы активистов, ключевых стейкхолдеров, а главное – саму управленческую команду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6. Психология «начала осады», обусловливающая попытки руководства компании «спрятаться» за юридическими аспектами кризиса, вместо того, чтобы бороться с основной проблемой, и, таким образом, позволяющая кризису причинить организации еще больший вред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7. Паника, осложняющая и/или парализующая процесс принятия решений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8. Публичное разрешение проблемы, сконструированное таким образом, чтобы удовлетворять интересам аутсайдеров – СМИ, правительства, регулирующих инстанций и групп влияния – но отнюдь не интересам самой компании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ризис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«нестабильный или переломный период или положение дел, при котором субъекту угрожают решительные перемены…»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ловарь Вебстера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ризис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прекращение нормального процесса, внезапное серьезное происшествие, ставящее под угрозу стабильность организации и обладающее потенциалом повредить или разрушить ее репутацию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26"/>
                </a:solidFill>
                <a:latin typeface="Impact"/>
              </a:rPr>
              <a:t>Кризис </a:t>
            </a:r>
            <a:r>
              <a:rPr b="1" lang="ru-RU" sz="3200" spc="-1" strike="noStrike">
                <a:solidFill>
                  <a:srgbClr val="262626"/>
                </a:solidFill>
                <a:latin typeface="Impact"/>
              </a:rPr>
              <a:t>— </a:t>
            </a:r>
            <a:r>
              <a:rPr b="1" i="1" lang="ru-RU" sz="3200" spc="-1" strike="noStrike">
                <a:solidFill>
                  <a:srgbClr val="262626"/>
                </a:solidFill>
                <a:latin typeface="Impact"/>
              </a:rPr>
              <a:t>это событие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по вине которого компания попадает в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центр не всегда доброжелательного внимания СМИ и других внешних</a:t>
            </a:r>
            <a:r>
              <a:rPr b="0" i="1" lang="en-US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целевых аудиторий, в том числе акционеров, политиков, профсоюзных</a:t>
            </a:r>
            <a:r>
              <a:rPr b="0" i="1" lang="en-US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организаций, движении в защиту окружающей среды, которые по той или иной причине вполне законно интересуются действиями организации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М. Роджестер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ризисная ситуация 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епредвиденное, экстремальное, катастрофическое положение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22:28Z</dcterms:created>
  <dc:creator>user</dc:creator>
  <dc:description/>
  <dc:language>en-US</dc:language>
  <cp:lastModifiedBy>User</cp:lastModifiedBy>
  <dcterms:modified xsi:type="dcterms:W3CDTF">2022-12-20T19:32:01Z</dcterms:modified>
  <cp:revision>31</cp:revision>
  <dc:subject/>
  <dc:title>ПР управление кризисом и возможностями</dc:title>
</cp:coreProperties>
</file>