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E09-F361-4B49-B1F2-B1A48701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1DA-B3F3-4A73-9F91-FE99E4CD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BE8-0872-4A6A-A70E-1E7669EA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5B2-7F8A-4C79-B2E5-8D395685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015-41CB-47F2-A938-A8068583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860C-81EF-4567-A724-D216EF0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E480-BB66-4E37-AD27-B9E5E7E0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5E46-5E58-435E-8B2F-6C54DBF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9C39-32F9-4DEE-A3C3-4EF91E1E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A405-96B7-46B5-ADDE-073141AB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C53C-5FCA-4054-BFCC-F20CAF7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C56-56E2-42D1-A1B3-07D79C05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651F-B2A7-4F70-BEBC-1824A2D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971B-47F7-4C5D-95E7-768F8E65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5EE3-F691-49F5-B81D-8F2D384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9136-6BD6-436F-A894-FB57D9BD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6605-4EDC-4050-8B28-F8AAEDB5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6C6-D38A-43F8-A61F-148B5BA7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440-B7D6-4B8B-837B-7928D45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C30-C434-4021-A7DD-4B7A9AD4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97C-A7D7-4040-B4A9-BB0DE98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DF3-BAD6-4DCC-9C4D-151C6C70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99E-DAC7-4B82-9304-50D9C86A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547-9C7C-4AA5-BF69-AD5BB50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D691-0D94-47E6-A2B5-53941C8C3B3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C8E-D779-4A60-9FFD-5411A85FEB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Tahoma"/>
                <a:ea typeface="Tahoma"/>
              </a:rPr>
              <a:t>«Черный»</a:t>
            </a:r>
            <a:r>
              <a:rPr b="1" lang="en-US" sz="4600" spc="-1" strike="noStrike">
                <a:solidFill>
                  <a:srgbClr val="006633"/>
                </a:solidFill>
                <a:latin typeface="Tahoma"/>
                <a:ea typeface="Tahoma"/>
              </a:rPr>
              <a:t> PR</a:t>
            </a:r>
            <a:r>
              <a:rPr b="1" lang="ru-RU" sz="4600" spc="-1" strike="noStrike">
                <a:solidFill>
                  <a:srgbClr val="006633"/>
                </a:solidFill>
                <a:latin typeface="Tahoma"/>
                <a:ea typeface="Tahoma"/>
              </a:rPr>
              <a:t>: </a:t>
            </a: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понятие, технологии, примеры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е коммун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ный PR - это целенаправленная деятельность, имеющая целью разрушение или ухудшение имиджа конкретного лица или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 "черный PR" возник в начале 90-х годов и обозначал распространение информации политического или коммерческого характера, оплата за которое производилась неофициально (в теневой форме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ет заведомо ложную информацию, а если она правдива, то добыта, как правило, нечестным путем (подкуп, шпионаж и проче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ривести к полному уничтожению организации или разрушению репутации человека (проще начать работу над чем-то новым, чем попытаться "отмыться" от черного пиара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image-6"/>
          <p:cNvPicPr/>
          <p:nvPr/>
        </p:nvPicPr>
        <p:blipFill>
          <a:blip r:embed="rId1"/>
          <a:stretch/>
        </p:blipFill>
        <p:spPr>
          <a:xfrm>
            <a:off x="1143000" y="404640"/>
            <a:ext cx="73897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черного 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P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я, представляемая на всеобщее обозрение, часто не соответствует морально-этическим нормам, принятым в обществ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ю черног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е является улучшение собственной репутации,  речь идет о "потоплении" конкурен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бликация компрометирующей информации в СМИ происходит плат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рометирующая информация, как правило, содержит какую-то новую завуалированную идею, которую нужно навязать аудитор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случаях, может быть полезен для объекта, на который он направлен (повышается узнаваемость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рометирующая информация практически всегда распространяется аноним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черн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кампании требует значительных материальных вло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age-4"/>
          <p:cNvPicPr/>
          <p:nvPr/>
        </p:nvPicPr>
        <p:blipFill>
          <a:blip r:embed="rId1"/>
          <a:stretch/>
        </p:blipFill>
        <p:spPr>
          <a:xfrm>
            <a:off x="684360" y="549360"/>
            <a:ext cx="73627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PR-кампании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конечных целей и детализация их на конкретные задачи (то, чего вы хотите добиться в итог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целевой аудитории (в каких кругах будет распространяться информац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стонахождение и контакты (где и как вы можете связаться с представителями целевой аудитории, чтобы донести до них нужные свед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схемы работы со СМИ (анализ методов донесения сведений до целевой аудитории, выбор приоритетных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нформационной составляющей (каким должно быть сообщение, чтобы вызвать резонанс в обществ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событий, в ходе которых будет распространена компрометирующая информац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ogo-1"/>
          <p:cNvPicPr/>
          <p:nvPr/>
        </p:nvPicPr>
        <p:blipFill>
          <a:blip r:embed="rId1"/>
          <a:stretch/>
        </p:blipFill>
        <p:spPr>
          <a:xfrm>
            <a:off x="2355840" y="2158920"/>
            <a:ext cx="44323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побочных событий, которые будут спровоцированы для увеличения резонанс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средственное создание событий, распространение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кампании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результа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корректирующих мероприят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ершение про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Технологии черного PR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мпрома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Цель - вызвать сомнения в компетентности конкурента путем запуска какой-то информации и донесения ее до широкой аудитор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обвинения должны быть восприняты публикой, как достоверные. Чаще всего требуется искусственное создание какого-то резонансного события, которое широко тиражируется через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Технологи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"Плохая похвала"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ужно публично похвалить противника таким образом, чтобы на аудиторию информация возымела обратный эфф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рирование успехов, чрезмерное употребление хвалебных эпите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информация не подтверждается какими-либо фактами. Таким образом, происходит ухудшение имидж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ейсы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плохая похвала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мероприятие, организованное главой района, конкуренты пригласили бизнесмена, который должен был выступить с хвалебной речью. В конце праздника человек начал рассказывать аудитории об успехах местного руководителя, о том, что ему удалось сделать и построить, что вызвало одобрение аудитории. Позже оратор в таких же позитивных тонах начал рассказывать о капитальном строительстве, которое планируется вести, что вызвало у слушателей негативные эмоции, ведь их уютные дворы превратятся в колодцы. Так в результате использования метода "плохой похвалы" глава района утратил доверие гражда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войная аудитория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ачала нужно оказать влияние на одну группу лиц, которые распространят свою негативную реакцию на другие сегмен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, чтобы добиться реакции властей, разрабатывается PR-кампания, направленная на вызов недовольств среди населения. На это реагируют СМИ. Тогда, у органов власти не остается другого выхода, как отреаг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ойная аудитор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 Public Relations по принципу двойной аудитории: скажем, руководители компании, которую требуется дискредитировать, были замечены в высказывании националистских ид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и убеждения они высказывали только в частных беседах. Но информация была донесена до общественных организаций и национальных общин. Их негодование вызвало интерес СМИ. Как результат, компания разорила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"Крючок и наживка"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бъекта, который нужно скомпрометировать, искусственно создается ситуация, в которую он должен попасть. Дальше все развивается так, что он сам портит свою репутац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ичный пример использования метода "крючка и наживки"- это уже реальная ситуация с американским президентом Биллом Клинтон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го познакомили с Моникой Левински, после чего завязался роман. Позже он был обвинен в сексуальных домогательствах, а внебрачная связь с Левински послужила аргументом против нег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щественное возмущение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- это поиск объекта или ситуации, на которую общественность отреагирует возмущение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мощи средств массовой информации состояние недовольства нужно подогревать как можно дольш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Разноцветный  </a:t>
            </a: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выстраивание тесных связей межу субъектом и общественностью с целью формирования положительного отношения к его личности или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дминистративный ресурс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мощи неправдивой информации органы местной или государственной власти настраиваются против определенной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ходе проверок, проводимых этими структурами, обнаруживаются многочисленные нарушения, что нередко приводит к уничтожению предприя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834920" y="177336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ей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литный ночной клуб проникают два молодых человека презентабельного внешнего вида. Будучи уже в помещении, они переодеваются в бродяг, начинают дебоширить, донимать гостей и драться с охраной. Результат - репутация клуба разрушена, он теряет кли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ководитель условной сети супермаркетов захотел устранить крупного конкурента. Для этого была нанята большая группа людей для создания искусственных очередей на кассах. При этом у каждого участника данной "акции" достаточно большое количество товаров. У остальных покупателей создается негативный образ магазина. Боясь больших очередей, они начинают обходить его сторо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пособы противодействия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черному P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езорганизация атак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Если у вас есть информация о том, что на вас готовится компромат, вы должны сами себя очернить, используя СМИ и прочие средства распространения информации. Обвинения должны быть весомыми и грубыми. Но через короткое время выходит опровержение с железобетонными доказательствами. Таким образом, к любым новым обвинениям у публики выработается иммунит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тод вспыш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а фоне информационной атаки со стороны конкурентов должно быть искусственно создано событие, которое по своей значимости перекроет компрометирующий материал. Важно, чтобы этот процесс протекал в другой информационной плоскости и имел позитивный оттен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нтрата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В ответ на информационную атаку, вы организуете свою войну с источником негативных и неправдивых сведений о ва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силение белого пиар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е обращая внимания на компромат, нужно как можно теснее работать со своей аудиторией, демонстрируя только положительные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иемы черного </a:t>
            </a: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PR 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в политике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являющийся полным тезкой или однофамильцем политика, организует благотворительную акцию, в ходе которой происходит раздача продуктовых наборов или других товаров. Естественно, они будут некачественными, что вызовет негодование у электора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мещение компрометирующего фото- и видеоматериала. Чаще всего скрытая съемка проводится в неформальной обстановке, где политик позволяет себе некоторые вольности, но и смонтированные материалы активно идут в х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негативного образа за счет неблагонадежной аудитории. Так, например, профашистские организации или представители ЛГБТ-сообщества могут быть наняты для того, чтобы проводить агитацию за конкур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ер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полная противоположность белог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 на то, чтобы сформировать негативный образ конкурента в глазах обществен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явление родственников. Это могут быть незаконнорожденные дети, братья или сестры, которые влачат жалкое нищенское существование. Как правило, это наемные люди, которые активно выступают на телевидении и в ходе митин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законная реклама. Подразумевается проведение агитации за конкурента в так называемые "дни тишины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ндализм и порча имущества. Имеется в виду расклейка листовок конкурента на памятниках архитектуры, дверях и окнах жилых зданий, окнах автомобилей. С целью добиться большей озлобленности аудитории может применяться несмываемый клей или едкая кра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азные статьи. В печатных СМИ местного значения размещаются заметки о коррупционных связях кандидата на избирательную долж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йный агент. В СМИ неугодный кандидат может быть уличен в связях с иностранными спецслужб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монстрация роскоши. Основная цель - предать гласности как можно больше дорогих покупок оппонента, учебу детей за границей, громкие празднования, в которых политик принимал участ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политике используются "образ врага", который подразумевает следующе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врага не приходится ожидать ничего хорошего, а потому нельзя доверять ему и оказывать поддержк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я вина за происходящие негативные процессы возлагается на политического оппонен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х врага приравнивается к автоматическому наступлению благосостояния наро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бы трудности не постигли "плохого" политика, к нему нельзя испытывать сострада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оратники врага автоматически наделяются таким же статус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струменты черного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в интерне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умы, блоги, социальные се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подобных ресурсах активно создаются фейковые аккаунты, с которых распространяется компрометирующая информация. "Тролли" принимают активное участие в обсуждении, приводя весомые и убедительные аргумен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зывы. Если раньше человек спрашивал мнение о качестве товаров или услуг о своих знакомых, сейчас он, первым делом, ищет подобную информацию в интернете. Поэтому достаточно часто в борьбе с конкурентами используются фейковые негативные отклики о работе той или иной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йты для размещения компромата. В сети есть огромное количество ресурсов, которые специализируются на черном пиаре. На них собрано множество порочащих сведений об известных лицах и организац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йты-клоны. Призваны ввести в заблуждение пользователей. Ресурс представляет собой практически полную копию реального сайта организации, за исключением контента. Страница наполняется текстами с нецензурной лексикой, а также медийными материалами экстремистского или иного оскорбительного содерж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-black-pr-228x331"/>
          <p:cNvPicPr/>
          <p:nvPr/>
        </p:nvPicPr>
        <p:blipFill>
          <a:blip r:embed="rId1"/>
          <a:stretch/>
        </p:blipFill>
        <p:spPr>
          <a:xfrm>
            <a:off x="1979640" y="260280"/>
            <a:ext cx="496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положительный или отрицательн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в котором используются данные из скрытых источников. Часто подразумевает воздействие на подсознание аудитор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бороться с черным </a:t>
            </a: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нтернете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ск и удаление негативных комментариев и отзывов с разных ресур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яжело, привлечь к данному процессу большое количество лю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пространение положительных сведений о своей организации. Для эффективной работы в этом направлении придется использовать инструменты SEO и SM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ся в виду оптимизация ресурсов с положительной информацией, чтобы они стали более доступными для пользова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ая рассылка. Правильно составленный пресс-релиз позволит укрепить позиции организации на фоне негативной информационной ата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упка страниц с хорошей посещаемостью и репутацией с целью размещения информации о компании и ссылок на ее ресур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ивизация белог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ети, чтобы затмить тот негатив, который исходит от конкур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атывается PR-проект, реализация которого создаст положительный образ компании в сети, который будет трудно пошатнуть любыми информационными вброс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black-290x275"/>
          <p:cNvPicPr/>
          <p:nvPr/>
        </p:nvPicPr>
        <p:blipFill>
          <a:blip r:embed="rId1"/>
          <a:stretch/>
        </p:blipFill>
        <p:spPr>
          <a:xfrm>
            <a:off x="2340000" y="1484280"/>
            <a:ext cx="41180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Желт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скандальные оскорбительные сведения, которые привлекают внимание общественности и вызывают бурные дискусс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озов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основан на легендах и мифах, которые удовлетворяют потребность аудитории в иллюзия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сходит выработка социального оптимизма и ощущения грядущего благополуч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еле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демонстрируется социальная ответственность и забота об окружающей сре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лот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создание имиджа организации на основе ценовой поли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828x620"/>
          <p:cNvPicPr/>
          <p:nvPr/>
        </p:nvPicPr>
        <p:blipFill>
          <a:blip r:embed="rId1"/>
          <a:stretch/>
        </p:blipFill>
        <p:spPr>
          <a:xfrm>
            <a:off x="1619280" y="1779480"/>
            <a:ext cx="5905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21:04:59Z</dcterms:created>
  <dc:creator>admin</dc:creator>
  <dc:description/>
  <dc:language>en-US</dc:language>
  <cp:lastModifiedBy>Дружба Ольга Владимировна</cp:lastModifiedBy>
  <dcterms:modified xsi:type="dcterms:W3CDTF">2022-03-16T09:07:52Z</dcterms:modified>
  <cp:revision>7</cp:revision>
  <dc:subject/>
  <dc:title>«Черный» PR: понятие, технологии, примеры</dc:title>
</cp:coreProperties>
</file>