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30D-4965-41EB-B814-3926410A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3E48-A5B0-459C-86D2-BEA15705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2F17-AD37-47A9-9B56-268F1CD4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133-C428-4B9C-AB04-BE1A32D4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9268-7E74-437F-AE0E-A9A09995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635F-84A7-4778-B5AD-D64DB1E8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3D78-6A6D-43B6-B142-EA591BCF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86D9-2FE2-4B85-9A09-3D325C9C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3E88-2AA7-4789-9D84-309FA41D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A330-CCFB-40EF-A877-B52B5967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B526-A3A0-44C2-BF1A-C3512CA9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D4C-5ECE-42DE-B5A7-DAA1D742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8ADC-5B91-4788-943F-A1E590D5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AE1B-5236-40F8-99E3-F905567B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D984-913D-47BF-9D2F-C7C067CA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A371-B3B6-463B-B34E-EF938D95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87FA-CAAA-49CA-B593-EBD7446A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A90-82B1-4640-A0D8-BA31B596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FFE-173F-4723-A4C3-75A0C331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380-43AC-4341-B05E-8CCC9630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219-43FE-4BE2-A79F-DCAD7801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2A7-8091-44AA-BB3B-470D7A02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A95B-EEE3-4A6C-ADDF-1D74AADC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DA7-FFEE-489D-936D-FF066066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B1DF-1582-438E-98FD-EA44FF06101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3CD6-5F7B-4C1C-B53E-F4BEBEA1546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Антикризисный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ктурные блоки в работе с кризисами-конфликтам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миков А.Н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и управления информационным по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2600" spc="-1" strike="noStrike">
                <a:solidFill>
                  <a:srgbClr val="006633"/>
                </a:solidFill>
                <a:latin typeface="Garamond"/>
              </a:rPr>
              <a:t>меры для нейтрализации конфликтного потенциала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ЦБ начали готовить пресс-пакеты со специальной информацией для журналистов, представленной в виде максимально готового для любого употребления продукта: просто почитать, войти в определенную проблему, полностью или частично использовать в публикациях и т.п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сокая степень готовности вспомогательных материалов уменьшала вероятность того, что будет сделана какая-то ошибка или допущена неточность в публик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всей стране были организованы циклы образовательных семинаров для журналистов. Подготовленный специалист ЦБ выезжал в регион, где собирались руководители территориальных учреждений ЦБ, представители коммерческих банков, инвестиционных организаций, журналисты местных С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раивалась обстоятельная дискуссия по проблеме, преследовавшая две цели: образовательно-информационную и прикладную, поскольку журналисты готовили по итогам семинара публицистические материал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водились и другие мероприятия для СМИ: пресс-конференции, в том числе селекторные, прямые эфиры и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ый блок гипотез был направлен на определение того, какие категории населения могут болезненно воспринять сообщения о деноминации. В частности, предполагалось и впоследствии подтвердилось исследованиями, что в наибольшей степени подвержены страхам пожилые люди, т.е. те, которых государство неоднократно обворовывал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конфликтогенных групп начали готовить телевизионные сюжеты, причем первоначально планировалось участие в разъяснительных роликах политиков, экономистов, банкир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тестирование в фокус-группах показало, что их появление на экранах в заданной роли вызывает у людей высокую степень раздражения, а, скажем, образы известных актеров, напротив, действуют на аудиторию благоприятн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итоге эти персонажи и фигурировали в роликах в качестве основны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ецифические формы PR-воздействия подбирали для молодежи, людей с низким образовательным уровнем и, наоборот, групп с повышенными интеллектуальными запросами и д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ого рода деятельность во многом способствовала тому, что деноминация осуществилась спокойно и безболезнен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33"/>
                </a:solidFill>
                <a:latin typeface="Garamond"/>
              </a:rPr>
              <a:t>Локальные приемы и механизмы</a:t>
            </a:r>
            <a:r>
              <a:rPr b="0" lang="ru-RU" sz="3100" spc="-1" strike="noStrike">
                <a:solidFill>
                  <a:srgbClr val="006633"/>
                </a:solidFill>
                <a:latin typeface="Garamond"/>
              </a:rPr>
              <a:t> управления конфликтами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зитивная компенс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пример, разработчики информационной стратегии табачных компаний всегда отдавали себе отчет в том, что они могут получать упреки в причинении вреда, обусловленного воздействием никотина на организм. Поэтому реальные и потенциальные нападки постоянно компенсировались мероприятиями в рамках программы корпоративной социальной ответствен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33"/>
                </a:solidFill>
                <a:latin typeface="Garamond"/>
              </a:rPr>
              <a:t>Локальные приемы и механизмы</a:t>
            </a:r>
            <a:r>
              <a:rPr b="0" lang="ru-RU" sz="3100" spc="-1" strike="noStrike">
                <a:solidFill>
                  <a:srgbClr val="006633"/>
                </a:solidFill>
                <a:latin typeface="Garamond"/>
              </a:rPr>
              <a:t> управления конфликтами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еждающее обострение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при разработке концепции развития имиджа того или иного руководящего персонажа имеется в виду, что лидера всегда будут в какой-то мере критиковать. Отсюда планируются уровни и позиции допустимой критики, которые затем намеренно закладываются даже в отдельные положительные материа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33"/>
                </a:solidFill>
                <a:latin typeface="Garamond"/>
              </a:rPr>
              <a:t>Локальные приемы и механизмы</a:t>
            </a:r>
            <a:r>
              <a:rPr b="0" lang="ru-RU" sz="3100" spc="-1" strike="noStrike">
                <a:solidFill>
                  <a:srgbClr val="006633"/>
                </a:solidFill>
                <a:latin typeface="Garamond"/>
              </a:rPr>
              <a:t> управления конфликтами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севдоконфлик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фликты инициируют специально для того, чтоб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 ослабить какой-то другой, более важный и опасный конфликт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) набрать дополнительный «вес» в конкурентной борьб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2004 году Центробанк России сделал заявление о наличии некоего "черного списка" банков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торые вовлечены в операции по "отмыванию" денег. Информация была быстро подхвачен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 несколько месяцев операционную деятельность по разным причинам прекратил целы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яд банковских учреждений, а в прессе стали появляться публикации с рассуждениями о том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кие проблемы у каких банков возникл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результате запаниковавшие вкладчики бросилис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нимать деньги с депозитных счетов, ввиду чего о своей платежеспособности сразу объявил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ще несколько банк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все были готовы к работе в таком режиме. Одну из наиболее грамотных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атегий кризисного реагирования выбрал тогда Альфа-Бан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уководство и акционеры банка отвечали на вопросы представителей СМИ. Был организова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еративный доступ журналистов к информации, выпущены телевизионные ролики для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ъяснения позиции финучрежд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отличие от других банков, сокращавших количеств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бочих часов, отделения Альфа-Банка работали до позднего вечера, обслуживая вкладчиков. Ег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уководство разъясняло свою позицию относительно кризиса и почему было принят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популярное, но действенное решение о введении временной 10%-ной комиссии за досрочно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нятие средств с депозитных счет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последствии комиссия вкладчикам была возвращена. П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анным открытых источников, акционеры Альфа-Банка вложили около $200 млн. личных средств,чтобы "удержать" свое детище на плав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итоге, несмотря на потери в результате кризиса более чем $9 млн., упомянутое финансово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реждение сохранило доверие большинства клиентов и устояло в сложившейся ситуации, в т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ремя как целый ряд других банков прекратили свое сущ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вова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6633"/>
                </a:solidFill>
                <a:latin typeface="Garamond"/>
              </a:rPr>
              <a:t>Локальные приемы и механизмы</a:t>
            </a:r>
            <a:r>
              <a:rPr b="0" lang="ru-RU" sz="2700" spc="-1" strike="noStrike">
                <a:solidFill>
                  <a:srgbClr val="006633"/>
                </a:solidFill>
                <a:latin typeface="Garamond"/>
              </a:rPr>
              <a:t> управления конфликтами</a:t>
            </a:r>
            <a:endParaRPr b="0" lang="en-US" sz="2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теграция оппозиционной эли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отправлять оппонента в отставку, не подвергать беспощадной критик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илучший нейтрализующий эффект дает приобщение оппозиционера к каким-либо руководящим должностям или органа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лучая некоторый статус и права, он берет на себя и долю ответственности, отсюда оппозиционные проявления, как правило, все более и более ослабляю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33"/>
                </a:solidFill>
                <a:latin typeface="Garamond"/>
              </a:rPr>
              <a:t>структурные блоки в работе с кризисами-конфликтами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 – Чумиков А.Н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вый блок-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универсальный цикл действий по управлению конфликтом или кризис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мните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антикризисного PR зависят от характера кризи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Лобовая ата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компания подверглась нападкам конкурентов, PR может быть построен по принципу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бовой атаки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аких случаях пиарщики настаивают на агрессивной политике, предполагающей привлечение внимания общественности и С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ме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упный холдинг и небольшой банк – невозврат креди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British Airways (BA) и Virgin Atlantic (VA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кейс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ин крупный холдинг задолжал небольшому банку более 20 млн. долл. Для банка это была огромная сумма. Эта ситуация поставила его под угрозу гибел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кейс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Что делать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кейс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сновных деловых изданиях банк купил рекламные полос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убликовали: кредитный договор и лишь одну фразу: «Долги надо платить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результат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олдинг заплатил по договор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олдинг заплатил за то, чтобы банк снял все запланированные публикации такого р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ме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2000 году, когда ВА запустила в Лондоне колесо обозрения British Airways London Ey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есо собирали на земле, и поставить его в вертикальное положение удалось не сраз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Лобовая ата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VA попыталась превратить акцию конкурента в публичное посмешище. VA тут же запустила над стройплощадкой дирижабль со слоганом "ВА не может подняться!"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«Отвлекающие маневры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хнология - цель которой  переключить внимание общественности с возникшей проблем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ервый бло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ституционализаци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фликта, т.е. установления норм и правил его разреш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егитимация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яснение уровня готовности участников конфликта добровольно соблюдать предложенные нормы и прави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ведение институциональной процедуры в соответствие с уровнем легитим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ме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гентство PR-Impact:  к ним обратилась крупная табачная комп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дном из провинциальных городов появились объявления, в которых поклонникам сигарет, выпускаемых этой компанией, рекомендовалось срочно пройти флюорографи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еш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гентство не стало выяснять, кто из конкурентов предпринял акцию с расклейкой объявл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рез несколько дней в тех же местах развесили похожие объявления, но кроме марки клиента там были указаны марки многих других конкурирующих компаний. В итоге предпринятый конкурентами ход потерял смыс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гентство переключило внимание с имени нашего клиента, и антиреклама стала напоминать акцию Минздра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Пример использования кризис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изис: Коровье бешенство в ряде областей страны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ороны, которые могут использовать с пользой для себя кризис: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Пример использования кризиса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изводитель говядины из «чистых» областей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изводитель или импортер говядины из другой страны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изводитель или поставщик вакцин для крупного рогатого ско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ервый блок-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труктурирование конфликтующих групп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что предполагает создание условий для проявления и организационного закрепления индивидуальных и коллективных субъектов — носителей имеющихся в обществе интерес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едующая управленческая задача –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дукци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фликта - его постепенное ослабление за счет перевода на другой уровен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имер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нашем обществе периодически возникают конфликты, определяемые требованиями получения дополнительных прав теми или иными нация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к, исходя из показанных выше действий, таким конфликтом можно управлять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атывается проект закона, например. "О национально-культурной автономии", который затем тестируется на предмет потенциальной готовности его выполнять и корректируетс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араллельно стимулируются собрания общественных объединений национального профиля с высказыванием мнений о законе, а также образование новых структур подобного типа с вовлечением их в процесс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сле этого начинают постепенно реализовываться прямые мероприятия по расширению прав наций - открытие национальных школ, выпуск соответствующих СМИ и т.п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торой бло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процессе реализации любого проекта изучаются специфические условия - политические, экономические, культурные и п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тем осуществляется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блемное прогнозирование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исследование, формирование баз данных по проблемам, вокруг которых в перспективе возможен конфликт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торой блок 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естирование проблемы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проверка конфликтных гипотез с определением уровня реальной опасност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вершает цикл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йтрализация конфликтного потенциал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разработка коммуникационной стратегии, создание и распределение оптимальных информационных потоков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мер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ры PR-воздействия, принятые Центробанком (ЦБ) РФ в 1997 году в преддверии деноминации рубля с учетом атмосферы недоверия к финансовым реформам, господствующей в российском обществ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ыла выдвинута гипотеза о том, что журналисты, особенно на перифер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-первых, недостаточно грамотны экономическ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-вторых, не всегда имеют под рукой необходимое количество вспомогательных материалов, поэтому они попадают в плен к доминирующему обывательскому мнен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подтверждения гипотезы использовались ранее опубликованные материалы, большинство из которых сводилось к тому, что денежная реформа обязательно связана с какими-то ограничениями: например, наличные деньги меняются в одном масштабе, а безналичные - в другом либо действуют ограничения по вкладам и т.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22:49:06Z</dcterms:created>
  <dc:creator>admin</dc:creator>
  <dc:description/>
  <dc:language>en-US</dc:language>
  <cp:lastModifiedBy>User</cp:lastModifiedBy>
  <dcterms:modified xsi:type="dcterms:W3CDTF">2022-12-20T19:13:20Z</dcterms:modified>
  <cp:revision>5</cp:revision>
  <dc:subject/>
  <dc:title>Антикризисный PR</dc:title>
</cp:coreProperties>
</file>